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2.gif" ContentType="image/gif"/>
  <Override PartName="/ppt/media/image9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30.png" ContentType="image/png"/>
  <Override PartName="/ppt/media/image25.wmf" ContentType="image/x-wmf"/>
  <Override PartName="/ppt/media/image24.wmf" ContentType="image/x-wmf"/>
  <Override PartName="/ppt/media/image28.png" ContentType="image/png"/>
  <Override PartName="/ppt/media/image1.wmf" ContentType="image/x-wmf"/>
  <Override PartName="/ppt/media/image10.wmf" ContentType="image/x-wmf"/>
  <Override PartName="/ppt/media/image14.gif" ContentType="image/gif"/>
  <Override PartName="/ppt/media/image17.png" ContentType="image/png"/>
  <Override PartName="/ppt/media/image16.png" ContentType="image/png"/>
  <Override PartName="/ppt/media/image19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1.gif" ContentType="image/gif"/>
  <Override PartName="/ppt/media/image23.wmf" ContentType="image/x-wm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0FB-E27A-40E3-99CC-E3606395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B42-F227-4AED-9A78-DDE682A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D25-37E3-40F5-B80F-D8E10AD1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4B5-2728-4FCA-B46F-5489506A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E06-19E1-4D2A-AC16-A8A23D5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D81-5547-49BE-B145-959F4679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63F-BED2-41A1-9300-2F43D55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C88-CC05-488B-8F3E-EFDB46C7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8F4-B5E1-4FFB-ABC2-FD9D862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56C-C78A-474F-B9BD-8F2BBC7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440-F52E-46A5-8707-EF5FB2C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ECA-8379-469D-8123-80E8938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E7E-7CD7-4C65-A338-6E2B50C8AE4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Energy Flow Through an Eco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od Chains, Food Webs, Energy Pyrami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eat producers to get energy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first 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onsum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herbivor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plant-eater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743200" cy="2511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st of the energy the primary consumer gets from the producer is used by the consumer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495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of the energy moves into the atmosphere as heat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090520" cy="1935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energy in the primary consumer is not lost to the atmosphere or used by the consumer itself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is energy is available for another consum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consumer that eats another consumer for energy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called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econdar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econd order consum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arn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or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herb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ed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cave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55800"/>
            <a:ext cx="4038480" cy="4013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st of the energy the secondary consumer gets from the primary consumer is used by the secondary consumer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14800" y="4343400"/>
            <a:ext cx="762120" cy="143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678204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of the energy is lost as heat, but some energy is stored and can passed on to another consum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52072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consumer that eats a consumer that already ate a consumer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called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rd orde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ertiary consum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arn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or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herb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ed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cave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eat producers &amp; other consumer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called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omniv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mnivores eat plants and anim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38480" cy="4219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hunt &amp; kill other consumers are called predators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y animals that are hunted &amp; killed are called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prey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19440" y="3476520"/>
            <a:ext cx="1905120" cy="771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31776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1143000"/>
            <a:ext cx="5029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egins with the SU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181480"/>
            <a:ext cx="8381880" cy="120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C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 + sunlight &amp; chlorophyll </a:t>
            </a:r>
            <a:r>
              <a:rPr b="0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6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umers that eat other consumers that have already died are called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scavengers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99080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transfer of energy from sun to producer to primary consumer to secondary consumer to tertiary consumer can be shown in a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FOOD CHAIN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1676520" cy="167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2106720" cy="16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05320" y="5562720"/>
            <a:ext cx="1206360" cy="81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791320" y="5257800"/>
            <a:ext cx="1363680" cy="11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086600" y="3429000"/>
            <a:ext cx="1676520" cy="15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4002600">
            <a:off x="914040" y="434340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40600">
            <a:off x="2590920" y="5410080"/>
            <a:ext cx="761760" cy="304920"/>
          </a:xfrm>
          <a:custGeom>
            <a:avLst/>
            <a:gdLst>
              <a:gd name="textAreaLeft" fmla="*/ 9504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1212400">
            <a:off x="4800240" y="586728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31400">
            <a:off x="7162560" y="5257800"/>
            <a:ext cx="761760" cy="304920"/>
          </a:xfrm>
          <a:custGeom>
            <a:avLst/>
            <a:gdLst>
              <a:gd name="textAreaLeft" fmla="*/ 9504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nother way of showing the transfer of energy in an ecosystem is the</a:t>
            </a:r>
            <a:br>
              <a:rPr sz="4000"/>
            </a:b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ENERGY PYRAMID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ergy pyramids show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the amount of available energy decreases down the food ch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takes a large number of producers to support a small number of primary consu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takes a large number of primary consumers to support a small number of secondary consu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262320" cy="300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42920"/>
            <a:ext cx="7543800" cy="6507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od Webs: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interconnected food ch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show the feeding relationships in an eco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3822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hemical reaction by which green plants use water and carbon dioxide and light from the sun to make glucose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NERGY is stored in glucose; glucose is stored as starch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257800" cy="31366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276720"/>
            <a:ext cx="769608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rganisms that can make glucose during photosynthesis are called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PRODUCER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604880" cy="186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304920"/>
            <a:ext cx="2849400" cy="21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10168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73392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ducers use most of the energy they make for themselves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119320" cy="2791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6572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ducers use cellular respiration to supply the energy they need to live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6674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ELLULAR RESPIRATION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is the chemical reaction that releases the energy in glucose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46520"/>
            <a:ext cx="82296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-&gt;  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 + 6C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energ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92504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energy that is not used by producers can be passed on to organisms that cannot make their own energy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14956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1676520"/>
            <a:ext cx="2209680" cy="91440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816200" cy="2684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792504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isms that cannot make their own energy are called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ONSUMERS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784520" cy="18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91320" y="1752480"/>
            <a:ext cx="2695320" cy="1398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23:23:05Z</dcterms:created>
  <dc:creator>Mary Poarch</dc:creator>
  <dc:description/>
  <dc:language>en-US</dc:language>
  <cp:lastModifiedBy>Mary Poarch</cp:lastModifiedBy>
  <dcterms:modified xsi:type="dcterms:W3CDTF">2005-04-29T10:31:37Z</dcterms:modified>
  <cp:revision>59</cp:revision>
  <dc:subject/>
  <dc:title>Energy Flow Through an Eco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4786452</vt:r8>
  </property>
  <property fmtid="{D5CDD505-2E9C-101B-9397-08002B2CF9AE}" pid="3" name="_AuthorEmail">
    <vt:lpwstr>mpoarch@ahisd.net</vt:lpwstr>
  </property>
  <property fmtid="{D5CDD505-2E9C-101B-9397-08002B2CF9AE}" pid="4" name="_AuthorEmailDisplayName">
    <vt:lpwstr>Mary Poarch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